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CF6-067A-47D2-9F96-AFBC329D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FB3-B5B7-4011-AA47-7144A23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26B6-1077-44DF-AFD3-FA0A329E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AEB89-9537-4489-9D82-D6C56775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2A0C6-7B59-46C4-88A8-4E83D72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287D8-789F-42E4-AB96-363882F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D155F-FA67-4493-8856-8DACCF8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BBE79-BBA7-4C7F-91EC-E7FF5DE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EABEB-32C6-41D6-9ABA-60BE606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85BF3-9219-4E9B-AE04-C3CFD837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4D391-7522-4124-9701-1751B5E6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F7F8C-3275-46DA-AABB-6F66BE1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7C0-9416-49E3-8ED0-46752860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CE49-B199-4B93-8B47-61ED79C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F7390-218B-4F15-99C6-FA143E7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7AA4-D6F5-4C87-973F-000FF6E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AD434-2604-4077-8050-C5F0632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13246-D401-4A83-BE41-DC7E14C4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022AA-3B0C-46EE-9A9F-F438530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455E9-4B06-4A4D-A1AC-742CF20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30C62-438F-46FF-A4F7-BFB7C11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6D420-3D38-47D3-9EE5-2CA1ABA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32DF-F14D-49D7-9585-65F75B06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222-148B-4E37-9BB9-EAC65169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8EDDC-9081-4F91-AB4E-47FA6E7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A12B3-CF0D-4D89-8FA8-E59A18B3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54897-22C0-4C45-BB6D-915E43A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1B3B-CC13-40FE-A8FE-5CCD62B5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6221F-AD8D-4D19-9AFB-916A9CFF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EDEED-8416-44E2-8D90-7624439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A6C50-C333-4532-A31E-23F6CD1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49386-4E86-4EB1-AF1F-C148182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FF8E8-50EE-47E6-9443-B73FC05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334F-FAAF-4852-B72E-5F1309E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B08F-E09F-4706-903D-3160F157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AFB2-77BD-48F8-B8A3-E23503D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18BB8-CED5-4BA2-9F7E-76C10D1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DAB85-76A8-48F1-A189-7FF2A16C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F8BF7-0302-42A0-9786-850B5454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C6898-C43A-4A9C-8D78-9D9FBC34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0126-7F46-4346-8BB7-0AC889B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549FD-021B-49C4-B00F-5D69546E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A2A5E-8717-4D90-858D-2138A81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BA357-33F0-4676-AE88-7709DE0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1A97B-A026-4C81-AACB-5E4C08C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7E7A-B1D8-41EB-9B4C-D95BBA17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72A4-2FDC-4337-A1E0-E6D5CB5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54914-5FBA-4C7D-B31E-ACC5788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5D036-D27C-4C87-8B87-4C468BD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7E4BD-69BB-4BCE-B16E-B6DDB96D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2A3B-AD86-4EB1-A4F9-D35C8B4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2673E-161A-493D-950C-4BAB7C18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9371D-0365-4AA5-809B-C794757A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4D829-29A0-4E37-9BE0-B40941A6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710DF-5A2C-4D35-A2E6-04F1B6E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C198E-1F32-4DDB-BA32-2FF39312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E22E-EC75-47C2-9264-B4B4B7F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D25F6-FFF7-4BC7-889D-3D7B1991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2B4CB-6398-42C3-912F-E6A0CC4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F5BD3-5A39-4EEA-AC63-F5785F4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29376-80BC-4BC3-BE29-D48786C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4257E-02DA-4F0E-B469-0AE36A0E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74945-3814-4802-A36C-9EF87C66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5255D-7330-46BF-9E1F-789F443F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AF37E-2DFC-462C-BD08-48D04941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DD040-B96C-4093-867F-E695925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94199-BB78-4CFC-8B50-404D23F8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8B9-F2C6-45D5-A3F5-DB8F27D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EDFDA-568F-4CC0-BACB-CF8ADE4C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53DBA-5236-4756-84B7-A79A99D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DBACD-7760-4F9A-BD96-3ED438F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5BA9A-3992-4A02-BA54-BB3DCD4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5616B-8853-4D57-AD99-BD81C2B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1DCBB-4FFA-44A1-9105-766F0F3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4E377-F413-4B8A-8DB9-EDF761B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AABD9-FAB3-494F-BEA5-62C5F7B0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D704A-B2E4-4080-968A-7E82B3BD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8418F-86F2-451E-9820-CA7D5F4A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B67-343E-46D0-A538-308C280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5349B-B094-45E9-BB57-598B700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89572-971B-451F-949A-FC251413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669A4-F6CF-4A63-8C4B-2A2DD2F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0409C-37D3-4B75-95F0-79A800A6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94123-B80A-4962-A780-6245200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D01D9-C56F-4220-8058-1C7731B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9FF19-004F-4D66-90C3-F979067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672B4-F6C8-4AE4-9B32-95EAB035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57582-60E1-4D78-A759-BEC0899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E36AA-D8AF-41DA-9206-71CA8C15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0A98-6ACD-4E1F-BAB8-F4FBE95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AE6DD-AB8A-46B0-BF3F-2454833E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19A-0730-499C-87D2-148CCCD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CE0-E4ED-41BB-881D-901153A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AB48-63C1-4404-9F3F-6D04426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0C4C-39ED-4549-87B1-5BC1A9F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750A-9AFB-4501-8596-CF296A67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C177-8D1A-432D-9A32-18850B76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3CC-C0E3-4913-9543-460F048C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F9F6-1F97-4138-9588-22B6244E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55C3-71D9-427F-B77D-5CE5408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9621-7196-457A-A27A-01D7D4DD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1108-9F2A-44B7-A346-B4ECB59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817C-9AE7-42CE-A95C-3E18C267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461-ABDD-4317-B79D-959A18D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E460-5D3C-4E65-9C97-984D0C0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E4A6-9E5E-419D-989D-665EB8E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E4EE-6503-4FDD-AA05-C4649DD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4493-062B-4997-8E78-AE3D344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6BF8-BBC7-46B2-805F-838ACD3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735E-2690-4C20-978E-A5D326BE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226B-8ADB-45A0-BE19-79CC6241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B20F-B014-4145-A80A-2E8BEA4E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4D36-9AE9-48D2-8A25-394C18BC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81D0-3B3B-4130-BF23-68A508DC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983-1674-433A-9FAF-AE68AF8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C50E-0EEA-4E56-AC13-E9E9C12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4ED6-91AC-4C86-BF2B-4783A07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3CC6-D230-4C08-8504-37BCD96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C870-6767-4236-B927-CEFA2C4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D36F-AE63-4B9A-B114-B445898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BC8D-404C-4BB5-AE55-1EFC965F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5B0E-526D-421B-BC6B-677FC0F1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A3F3-D7FD-49CE-9F11-B9D328D0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0B23-38E9-428C-805A-9F784E2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5115E-F111-43FB-85DD-236C01D7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683-F2C6-4297-9BF3-43E4EA98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66B2-1587-4CF2-AF6B-054483C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F66C-0678-4788-AE16-612B973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B4610-9DF8-422A-B769-0A70AB7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9445-4E35-49B2-897C-45B9B45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6C69-2017-4835-8001-B3B59589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AB5D-3E13-4C8E-A331-76B8CF2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3DB7-235A-4F7F-806A-6D3C11E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249F-D49F-47CB-AFAC-0EDD9E0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7968-EDA7-49AF-94D3-FFFF510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9659-63A7-4C32-843A-4E8ED9FB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1E2-EEBA-4900-A43A-E6B102E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422F-C211-4B8E-AB12-0F4693DA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F5ABF-4FF2-4FD5-B40B-11BEAEFB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36A74-2D75-4BDD-9D82-55E5437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86D98-3C04-44D4-A6C5-85ABADFC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90AC-84A9-4206-8F22-4C3FD1F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9813-846A-46A1-890D-66B0DD79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D660-2DD1-4594-9B88-FD7B16C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B55E-A21F-4D9A-A8E1-B605D48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3342-9ACA-41EA-86C6-54984C9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FD18-63BD-4E74-BA5B-68C8663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FFD-EF29-4080-A796-169B295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E285-D9D6-485C-A051-6627AA6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48CF-246D-46C2-BBBF-5C4DCB14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A459-B344-489C-B265-5E718E69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2F48-617B-407F-AEFA-00B9368B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B158-088B-431A-9170-FBB9D2FE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A7FC-E20C-4DEE-B3C5-7266761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E1223-E86C-47F1-A0E2-B87B8EE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D584-381E-4BCF-AA6E-EEF1A8FB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561E6-D9E0-4BFC-8F34-A0339E33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E4BD-50A6-4FC6-9B75-24DAFF07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34E-3900-4868-A0C3-ECA38B5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A78E-5FA4-4498-A1F2-FE230DF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B8B6-4E1B-4EA0-9760-46E331D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489B-59A0-4FD7-997F-B2D34160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8EB09-411E-4237-8A97-B332A9FC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1DE4-23A6-410D-81F2-42D75E73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D07A1-232C-49D7-9293-40A970D8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4C10-25A0-4340-A4D5-F4AE0DCB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2C7FB-F4D6-4B7A-93FB-F9614030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97A0-6864-4A46-9DCF-89C9147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5C72-EB5D-4775-AA7E-7B3B0019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B11-E5C9-4654-9153-34E054B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CF95-0D2D-4E80-ACB5-0042C47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47DB8-48F8-4F38-A65B-C91609D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1FEC-EF94-44B5-88A1-6E8BD95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700C5-DAB0-4D41-A1BE-7F1C2F7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79CB1-4AE8-4844-AB05-62CD667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F615-2196-4F68-9D9F-6F51BB4E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B9789-DCBA-4B94-81D9-2E499F4A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3FB6-3D51-4C7D-9D6D-3566209F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78A6-344F-4191-8E5D-8811A9E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3C321-5023-48DC-8753-AF39387F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032CC-BFCA-477C-A85E-74BFD44D682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E4F39-07F8-4D91-A8DB-EE85810AF60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764BC-C2FE-4287-BF12-F9972C0DED6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19F2D-9C87-48A7-8EC9-9E5939FCE76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2B104-18C6-4DE8-9582-16A2A776E01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96B4F-182B-445E-9A2D-F6A787CD5E1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AD76F-747A-46C4-8EC7-C9CC8765841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4FAED-90D8-4990-8148-BEFB65D26F2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91102-6B80-4BFC-86EA-1A1708A1C8E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80CE3-9886-488C-8FE1-F9E207D89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74C2F-7D27-46EB-8C2D-FD87FFA3BF6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EE069-A97F-4C48-B328-D8B53E45161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0" b="25032"/>
          <a:stretch/>
        </p:blipFill>
        <p:spPr>
          <a:xfrm>
            <a:off x="77868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4A808-3AE0-47DC-9206-327E71C4662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F1C87-3C45-49C3-8D6D-75C2D2B2560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7E9CB-3C08-4C17-BFF0-7E1A95EE1FC1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D6163-2372-4300-A8BB-67F0A3DE51A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89A24-56B0-483F-8900-28D10EDA998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4AA56-2CF8-4B3D-84B2-C6B53974ECA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B0343-23C1-4F32-89AD-B97A7D38A52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01891-384A-40E7-937C-40140196002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D833B-094C-4853-931A-DA1912B2A54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EF803-854D-4820-A52E-C51428715BA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CE780-7CEB-4CF3-9C15-291722C1D15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343AF-C2FD-4265-B3BF-D2C20F69FF7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79360-5361-4A83-967C-19924E435029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1CD6E-1AC5-4B7D-8DDA-1CF43E92A57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EA3C8-2ECB-4F95-A437-770662DA8A5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66A81-2E2F-4F75-BCCE-E84289436D7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F43AC-6B1B-42C3-A21C-7F9FFEA1783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C4C49-44D2-4385-866B-4F8EE228350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Community Partners’ Motivations to Participate in Academic Outreach</a:t>
            </a:r>
            <a:br>
              <a:rPr sz="16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79040" y="4572000"/>
            <a:ext cx="758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Barrera, Ph.D.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alifornia, Los Ange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SLCE Annual Confer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, M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4, 20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 by cas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vided data by case &amp; constituenc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 cycle coding within case looking for converging and diverging dat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cycle coding within case looking for categori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ustered categories across the case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EC0EC-6DA7-4D89-ACA3-551CBFF8AAA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The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ed and clustered the data (both interview &amp; document data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ed emergent themes across cas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vic interdependence emerged from themes on motiv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7DA3F-D31D-4902-84CE-D64C187B783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07213-285B-404D-AAAC-35832B01DCB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4920" y="2971800"/>
            <a:ext cx="3657600" cy="230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TUAL RESOURCE DEPEND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ask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ssista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ti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Stu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Straight Connector 6"/>
          <p:cNvSpPr/>
          <p:nvPr/>
        </p:nvSpPr>
        <p:spPr>
          <a:xfrm>
            <a:off x="4267080" y="4114800"/>
            <a:ext cx="10162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5486400" y="2787480"/>
            <a:ext cx="344340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OLOGICAL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crease Access for U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2"/>
          <p:cNvSpPr/>
          <p:nvPr/>
        </p:nvSpPr>
        <p:spPr>
          <a:xfrm>
            <a:off x="53352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s to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Resource Depend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sk suppor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chnical assistanc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niversity prestig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cess to stud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29A98-F607-4936-8438-E09699988F0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Mot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ed to increase acce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E4BB6-0211-41B9-A39C-62871691F5F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get cuts have small impact on how partners view the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c interdependence explains partners’ particip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tual need for resource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tual responsibility to address access gap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hared commitment to increase acces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hared desire to increase engagemen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C8B58-4C81-495E-910B-91D04F3C867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0362F-D1D7-4A6B-BE9C-111E8EEFCFC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Diagram 4" descr=""/>
          <p:cNvPicPr/>
          <p:nvPr/>
        </p:nvPicPr>
        <p:blipFill>
          <a:blip r:embed="rId1"/>
          <a:stretch/>
        </p:blipFill>
        <p:spPr>
          <a:xfrm>
            <a:off x="1378080" y="2266920"/>
            <a:ext cx="68515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rib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880" y="1600200"/>
            <a:ext cx="8382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ing the motivations of school partners to participate in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resource dependency and ideological motivation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understanding of what actions lead to good relationships between schools and universities in the context of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s budget cuts have on these relationship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 of community voice to research on institutional civic engagement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FE849-64E5-4CC5-935E-D380C467BDB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 Barre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rrera@college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A Center for Community Lear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communitylearning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Responsi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History of purposes extending to the public go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Need to expand access to postsecondary educ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The role of outreach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3357B-D80A-43C5-961B-6C088D0B82C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erature on Outreach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983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ost studies focus on student outcomes (Gándara &amp; Bial, 2001; Gónzalez &amp; Moll, 2002; Tierney &amp; Jun, 2001) 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research that focuses on the relationships with school partn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earing directly from community stakehold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effects of current economy on outreach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t means for the university meeting its diversity and social responsibility goal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B8D06-7FF5-45D5-9D25-F2E42CC2AB9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 framewor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560" y="1345680"/>
            <a:ext cx="84582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e school partners participat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ifferential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s dependent on resource-rich partners (Jacobs, 197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reduce dependencie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(Hall et al, 1977; Lundin, 2007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material reasons (Johnson, 1995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c 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F6C32-4A71-48B3-BF33-C9A2CC18B08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earch 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do community partners participate in college preparation outreach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es the university articulate its commitment to social responsibility and diversity, and how does participation in college preparation outreach affect community partners’ views of the university’s commitment?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AFA6E-91F6-488A-88CC-588F5ED029E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79040" y="1828440"/>
            <a:ext cx="75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f the Public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throughout re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underrepresented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advising for select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rest of school when availabl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EFCEE-B027-4D5A-AE23-B238F72AB07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79040" y="1828440"/>
            <a:ext cx="758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in narrow geographic ar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 students in th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prepare students to be STEM maj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s students for annual competi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F8E7A-FA84-444F-A60E-A7FCC6F0E76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79040" y="1345680"/>
            <a:ext cx="7583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greem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material (web content &amp; brochu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partn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taf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rectors, two coordinators for U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rotoc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lasted average of 45 minu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EC0FB-2DB4-4445-AB89-77A8703F25F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1676520"/>
            <a:ext cx="853416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4 teachers &amp; 2 counselo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15 counselors (at 14 schools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nd 2 site coordinators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65C98-2DAD-44BA-B469-550851988BE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46:41Z</dcterms:created>
  <dc:creator>Douglas Barrera</dc:creator>
  <dc:description/>
  <dc:language>en-US</dc:language>
  <cp:lastModifiedBy>Barrera, Douglas</cp:lastModifiedBy>
  <dcterms:modified xsi:type="dcterms:W3CDTF">2012-10-02T23:13:33Z</dcterms:modified>
  <cp:revision>44</cp:revision>
  <dc:subject/>
  <dc:title>Whose Job Is It Anyway? A Qualitative Exploration of Early Academic Outreach Through a Community-Campus Partnership Model</dc:title>
</cp:coreProperties>
</file>